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77696-B489-4BFD-A10E-32CF6AC66D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888CF-1D0C-4D53-A54F-268D9A275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, coerc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D25CD-3E26-464A-B675-EF0D77A3C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83E-FE7C-4206-9E19-B69F3E7E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B2E-C369-42F4-9984-783774B9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0C8-E7C7-47CB-A6B0-ABF04A7B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2D2-752B-467B-9E28-0CC29CFD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B78A-9189-429E-8052-8FD63458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8D4-7157-4CA9-B169-EF9C672C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0AC-CC84-4525-A1BF-FDF06DEF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062-E7A5-4570-AAD7-719A918F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0CA-B975-4C3D-B0F1-174ADBF3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94C-BE65-4244-AD30-436E0E90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86F-4248-4406-A8C8-60683E5E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4030-5A6B-4B3B-A29A-60A1C0CD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EF67A-6E05-4566-915D-3519C7570A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C8BA1-D163-4942-B9A4-90F01482F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 Up – Top ½ 15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nking back on the Chicano Movement…wha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ivic Action Strategie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d people in this movement use to create change? (list 6+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. Organizing a mar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roughout this year, while looking at grassroots movements, we’ve talked about many strategies for civic action…so what can we add to this list? (How many more can we add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5400" y="274320"/>
            <a:ext cx="874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Watch Kony 2012 -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nswer on Page 15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85400" y="1417680"/>
            <a:ext cx="5295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oes Director, Jason Russell, explain Joseph Kony to his three-year-old s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details could you add to this that may not be appropriate to tell a child, but are important to tell a fellow youth or adul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does LRA stand f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did the U.S. government (representatives) say (10 years ago) it was impossible for the U.S. government to get involved in Ugand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type of power do celebrities have? And what type of power do policy makers have? What type of power do the people involved with this campaign hav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481720" y="1917720"/>
            <a:ext cx="344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57200" y="0"/>
            <a:ext cx="8043840" cy="71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ION – Bottom ½ 15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trategies can we add to our list of Civic Action Strategies used by these youth activists turned professional film maker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how many can we add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1:06:31Z</dcterms:created>
  <dc:creator>Teacher</dc:creator>
  <dc:description/>
  <dc:language>en-US</dc:language>
  <cp:lastModifiedBy>Teacher</cp:lastModifiedBy>
  <dcterms:modified xsi:type="dcterms:W3CDTF">2012-03-15T00:56:10Z</dcterms:modified>
  <cp:revision>6</cp:revision>
  <dc:subject/>
  <dc:title>Slide 1</dc:title>
</cp:coreProperties>
</file>